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FCF-BF02-4B0E-BC21-D28BA670E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84A-73D1-4C1A-9A80-0603799E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436-D1D0-4C4A-AABE-3390554B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91F-B3DA-4CDF-9503-52CCD822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6122-44B8-4EDE-8AFB-65F8F77A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DFFA-399E-4EFE-BE9A-B15B7833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8C0-F7F5-4D71-BB6B-D22230B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E80D-DE01-4A53-A28C-FD31AC21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AFB-9505-44CA-B79A-AE8C4050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2A8-1AE1-482A-9548-211001A4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B20-72F0-40CC-A3C5-559BF92B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A2D4-749C-4A69-932B-CEB33BBF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3031-2B85-427C-BFB8-038C9CDFB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%20cross%20and%20faces" descr=""/>
          <p:cNvPicPr/>
          <p:nvPr/>
        </p:nvPicPr>
        <p:blipFill>
          <a:blip r:embed="rId1"/>
          <a:stretch/>
        </p:blipFill>
        <p:spPr>
          <a:xfrm>
            <a:off x="40384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يا أيهذا الرأسُ ما هذهِ الأوجاع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مِنكَ دِماءٌ تجْري سيلاً بلا انقطاع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فيا لهُ  من سوءٍ يُجزى بهِ الجم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</a:rPr>
              <a:t>إليكَ راسَ ربِّي سلامَنا الجزيل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38280" y="0"/>
            <a:ext cx="64771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ناسُ هاكُم جسمَ المُخلّصِ الذبيح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هلْ رأيتُم سُقماً كسُقمِ ذا الجريحْ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ِن أجلِكُم دِماهُ تسيلُ يا أُم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من قمةٍ لرأسٍ لأَخمَصِ القَدَ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aint%20+%20cross+%20jesus" descr=""/>
          <p:cNvPicPr/>
          <p:nvPr/>
        </p:nvPicPr>
        <p:blipFill>
          <a:blip r:embed="rId1"/>
          <a:stretch/>
        </p:blipFill>
        <p:spPr>
          <a:xfrm>
            <a:off x="4000680" y="-1295280"/>
            <a:ext cx="5829120" cy="10210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228600"/>
            <a:ext cx="3657600" cy="10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الذي يا ربي قد سبَّبَ الآل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ِفرْطِ ما جَنَاهُ مِن أَثقلِ الآثام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سيدُ ارحَمْ عبداً يرجو لها الغف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َهَبْ لهُ مَقامَ السماءِ يا رحمان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riends%20with%20god" descr=""/>
          <p:cNvPicPr/>
          <p:nvPr/>
        </p:nvPicPr>
        <p:blipFill>
          <a:blip r:embed="rId1"/>
          <a:stretch/>
        </p:blipFill>
        <p:spPr>
          <a:xfrm>
            <a:off x="5234040" y="0"/>
            <a:ext cx="39099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228600"/>
            <a:ext cx="5105520" cy="76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يا ربُّ إنَّا نبكي لذا الموتِ الأل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ومِن صًميمِ قلبٍ ندعوكَ يا رَحي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Arabic Transparent"/>
              </a:rPr>
              <a:t>هبنا سلاماً والْطُفْ بِشعبِكَ الأثيم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نوِّلْنا أخيراً سعادةَ النّعيمْ</a:t>
            </a:r>
            <a:r>
              <a:rPr b="0" lang="ar-SA" sz="24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0:32:59Z</dcterms:created>
  <dc:creator>SUZANNE.MD</dc:creator>
  <dc:description/>
  <dc:language>en-US</dc:language>
  <cp:lastModifiedBy>SUZANNE.MD</cp:lastModifiedBy>
  <dcterms:modified xsi:type="dcterms:W3CDTF">2003-03-19T06:35:23Z</dcterms:modified>
  <cp:revision>2</cp:revision>
  <dc:subject/>
  <dc:title>PowerPoint Presentation</dc:title>
</cp:coreProperties>
</file>